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2880-4FEF-48B7-BAEA-C397CF85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4D2E-C1F6-4A16-872C-9F5BFCE4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1AF7-AA9F-4EE6-984E-EDD8DAB0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FBD3-D66B-4A0C-B031-9BD6D127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0242-A19B-433D-9F05-237A2722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A76-EB1F-4797-9E7F-05E3D7B5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E712-7E76-471D-9F9D-89F1B531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E51-0E47-484E-A50D-4E0B8DF7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AC64-551C-4113-8182-255341C8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8742-1164-4957-9D2B-89BB9FBD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6658-C40E-4DD7-95CE-48BE7B64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996D-49B4-439B-899E-A4CC5143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5C79-5BB8-4BCE-ABB0-A1CB9CEF3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: Less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ffects Your Heal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ttitud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glass half empty or half f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 have control over your behavi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healthful behavi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 and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media affect your deci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ed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 and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partner, brainstorm a list of valid health information sites that you may have explored in the p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examples with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Activit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iver’s family has a history of heart disea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eps might he take to protect his health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areas of his health can overcompensate for the history of heart dis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bulleted list with a partn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heredit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environment.  What are the three types of enviro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wo ways that media and technology may influence your heal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Vocabul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uences on your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seases and conditions run in your fami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 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that affect heal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your social environment affect your health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 ideas as a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16:02:22Z</dcterms:created>
  <dc:creator>sroberts</dc:creator>
  <dc:description/>
  <dc:language>en-US</dc:language>
  <cp:lastModifiedBy>sroberts</cp:lastModifiedBy>
  <dcterms:modified xsi:type="dcterms:W3CDTF">2010-09-02T14:50:50Z</dcterms:modified>
  <cp:revision>6</cp:revision>
  <dc:subject/>
  <dc:title>Chapter 2</dc:title>
</cp:coreProperties>
</file>